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17A2-67D5-44F7-9B33-9A67F449E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F7BC-CDEE-41F6-BE97-43C3C03BF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8646-67C1-4722-A770-F03384F8C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7C03-1E8C-4F0E-8C3F-BE79509790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B615-C1B6-4E75-B579-8432DB30FA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9457-7E9A-401B-AC6B-A78B4D67B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84F1-718F-41E6-B08D-16E81B16C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C8C1-3848-488C-85A7-131A3539A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F61B-5264-43EF-BCEF-3F478B814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F51F-8923-4712-AD06-9318B639B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4281-C31D-46DD-87CB-CC100012F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F9C9-4A70-46FD-95E9-DC09EA285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80E9-919E-4511-AA9B-3B64030C98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molecular Forces of At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ersion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est force of at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molecular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with increasing molar mass (size of molec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rsion forces are a result of temporary dipoles formed by the shifting of electron clouds within molec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emporary dipoles attract or repel the electron clouds of nearby non-polar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ersion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33560" y="1676520"/>
            <a:ext cx="527688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pole-Dipole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actions between neighboring polar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trongest intermolecular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ar molecules act as little magnets, they have positive ends and negative ends which attract each oth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pole-Dipole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3320" y="1371600"/>
            <a:ext cx="483552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gen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ongest force of at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ong force of attraction between the unshared pair of electrons on O, N or F with a neighboring H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gen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629400" cy="49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old"/>
                <a:ea typeface="Arial Bold"/>
              </a:rPr>
              <a:t>Intermolecular Forc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Intermolecular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kutcher</dc:creator>
  <dc:description/>
  <dc:language>en-US</dc:language>
  <cp:lastModifiedBy/>
  <cp:revision>0</cp:revision>
  <dc:subject/>
  <dc:title>Intermolecular Forces of Attractions</dc:title>
</cp:coreProperties>
</file>